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3385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68712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3385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68712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3385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8712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3385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68712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3385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68712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23385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368712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3385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68712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23385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368712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3385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8712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3385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368712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3385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8712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3385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368712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3385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68712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23385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368712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3385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68712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3385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368712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3385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68712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23385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368712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3385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68712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23385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368712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398772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033720" y="22982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033720" y="4640040"/>
            <a:ext cx="194580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33856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687120" y="22982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33856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687120" y="4640040"/>
            <a:ext cx="1283760" cy="213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406368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20062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931000" y="2298240"/>
            <a:ext cx="323856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17600" indent="-2102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1360" indent="-2102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996120" indent="-2102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298520" indent="-2102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609560" indent="-2102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609560" indent="-2102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609560" indent="-2102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90360" y="825120"/>
            <a:ext cx="8178840" cy="595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586080" indent="-30888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97920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36080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76508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18124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18124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18124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444240" y="3860280"/>
            <a:ext cx="4699080" cy="238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444240" y="1397160"/>
            <a:ext cx="4699080" cy="2387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592560" indent="-3121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990000" indent="-31248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375560" indent="-31248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784520" indent="-31248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205360" indent="-31248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205360" indent="-31248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205360" indent="-31248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73040" indent="-238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05320" indent="-238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27880" indent="-238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470240" indent="-238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822320" indent="-238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822320" indent="-238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822320" indent="-238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95160" indent="-33948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546200" indent="-3398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990800" indent="-3398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448000" indent="-3398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448000" indent="-339840">
              <a:spcBef>
                <a:spcPts val="7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448000" indent="-339840">
              <a:spcBef>
                <a:spcPts val="7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81916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73040" indent="-238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05320" indent="-238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27880" indent="-238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470240" indent="-238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822320" indent="-238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822320" indent="-238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822320" indent="-238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381560" y="1917720"/>
            <a:ext cx="1409760" cy="3859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http://www.animoto.com/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glogster.com/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hyperlink" Target="http://www.sliderocket.com/" TargetMode="External"/><Relationship Id="rId9" Type="http://schemas.openxmlformats.org/officeDocument/2006/relationships/image" Target="../media/image6.png"/><Relationship Id="rId10" Type="http://schemas.openxmlformats.org/officeDocument/2006/relationships/hyperlink" Target="http://www.jamlegend.com/" TargetMode="External"/><Relationship Id="rId11" Type="http://schemas.openxmlformats.org/officeDocument/2006/relationships/image" Target="../media/image6.png"/><Relationship Id="rId12" Type="http://schemas.openxmlformats.org/officeDocument/2006/relationships/hyperlink" Target="http://www.vuvox.com/" TargetMode="External"/><Relationship Id="rId1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hyperlink" Target="http://www.notaland.com/" TargetMode="External"/><Relationship Id="rId5" Type="http://schemas.openxmlformats.org/officeDocument/2006/relationships/image" Target="../media/image6.png"/><Relationship Id="rId6" Type="http://schemas.openxmlformats.org/officeDocument/2006/relationships/hyperlink" Target="http://www.skype.com/" TargetMode="External"/><Relationship Id="rId7" Type="http://schemas.openxmlformats.org/officeDocument/2006/relationships/image" Target="../media/image6.png"/><Relationship Id="rId8" Type="http://schemas.openxmlformats.org/officeDocument/2006/relationships/hyperlink" Target="http://www.oovooo.com/" TargetMode="External"/><Relationship Id="rId9" Type="http://schemas.openxmlformats.org/officeDocument/2006/relationships/image" Target="../media/image6.png"/><Relationship Id="rId10" Type="http://schemas.openxmlformats.org/officeDocument/2006/relationships/hyperlink" Target="http://www.twitter.com/" TargetMode="External"/><Relationship Id="rId1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hyperlink" Target="http://www.pixlr.com/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http://www.pbwiki.com/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http://www.podomatic.com/" TargetMode="External"/><Relationship Id="rId8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20062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Make a Difference 2009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406368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to Have a Stress-Free Presenta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990360" y="1333440"/>
            <a:ext cx="8178840" cy="48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625320" indent="-3052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reates a moo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25320" indent="-3052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dds interes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25320" indent="-3052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an be embedd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25320" indent="-3052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an be played on CD player in the  backgroun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25320" indent="-3052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ink on wiki for a list of websites that can be used to find music for your multimedia presenta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25320" indent="-3052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quipment needed: computer, internet, MP3 player, CD player, Cd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990360" y="-1296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Music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Web 2.0 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156168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nimoto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halkboard"/>
                <a:hlinkClick r:id="rId3"/>
              </a:rPr>
              <a:t>www.animoto.co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logster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halkboard"/>
                <a:hlinkClick r:id="rId5"/>
              </a:rPr>
              <a:t>www.glogster.co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Voicethread - www. voicethread.co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liderocket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halkboard"/>
                <a:hlinkClick r:id="rId8"/>
              </a:rPr>
              <a:t>www.sliderocket.co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Jam Legend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halkboard"/>
                <a:hlinkClick r:id="rId10"/>
              </a:rPr>
              <a:t>www.jamlegend.co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VuVox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halkboard"/>
                <a:hlinkClick r:id="rId12"/>
              </a:rPr>
              <a:t>www.vuvox.co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ollaboration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oogle - docs, presentation, forms, etc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ota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halkboard"/>
                <a:hlinkClick r:id="rId4"/>
              </a:rPr>
              <a:t>www.notaland.co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kype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halkboard"/>
                <a:hlinkClick r:id="rId6"/>
              </a:rPr>
              <a:t>www.skype.co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oVoo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halkboard"/>
                <a:hlinkClick r:id="rId8"/>
              </a:rPr>
              <a:t>www.oovooo.co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witter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halkboard"/>
                <a:hlinkClick r:id="rId10"/>
              </a:rPr>
              <a:t>www.twitter.co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5600880" y="2590920"/>
            <a:ext cx="2788920" cy="32893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6477120" y="2197080"/>
            <a:ext cx="1409760" cy="3859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3468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Places to Work </a:t>
            </a:r>
            <a:br>
              <a:rPr sz="5600"/>
            </a:b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at School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60240" y="1993680"/>
            <a:ext cx="398808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65280" indent="-30960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65280" indent="-30960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riting Center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65280" indent="-30960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MZ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65280" indent="-30960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104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65280" indent="-30960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Graphics/Photo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"/>
          <p:cNvSpPr/>
          <p:nvPr/>
        </p:nvSpPr>
        <p:spPr>
          <a:xfrm>
            <a:off x="7470720" y="266760"/>
            <a:ext cx="2689200" cy="2654280"/>
          </a:xfrm>
          <a:prstGeom prst="wedgeEllipseCallout">
            <a:avLst>
              <a:gd name="adj1" fmla="val -52500"/>
              <a:gd name="adj2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Chalkboard"/>
              </a:rPr>
              <a:t>Bring all needed items with you!!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Chalkboard"/>
              </a:rPr>
              <a:t>Cables, power cords, CDs, DVDs.....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Make a Difference Wiki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"/>
          <p:cNvSpPr/>
          <p:nvPr/>
        </p:nvSpPr>
        <p:spPr>
          <a:xfrm>
            <a:off x="1034640" y="2410200"/>
            <a:ext cx="8079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  <a:ea typeface="Chalkboard"/>
              </a:rPr>
              <a:t>www.makeadifferenceuhs.wikispaces.co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6654960" y="2616120"/>
            <a:ext cx="1307880" cy="38512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6477120" y="2197080"/>
            <a:ext cx="1409760" cy="38592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Tips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9320" indent="-32364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PLAN AHEAD</a:t>
            </a:r>
            <a:endParaRPr b="0" lang="en-US" sz="2600" spc="-1" strike="noStrike">
              <a:solidFill>
                <a:srgbClr val="ffffff"/>
              </a:solidFill>
              <a:latin typeface="Chalkboard"/>
            </a:endParaRPr>
          </a:p>
          <a:p>
            <a:pPr marL="679320" indent="-32364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BE ORGANIZED</a:t>
            </a:r>
            <a:endParaRPr b="0" lang="en-US" sz="2600" spc="-1" strike="noStrike">
              <a:solidFill>
                <a:srgbClr val="ffffff"/>
              </a:solidFill>
              <a:latin typeface="Chalkboard"/>
            </a:endParaRPr>
          </a:p>
          <a:p>
            <a:pPr marL="679320" indent="-32364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EST, TEST. TEST</a:t>
            </a:r>
            <a:endParaRPr b="0" lang="en-US" sz="2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842080" y="1851120"/>
            <a:ext cx="2539800" cy="41050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6477120" y="1471680"/>
            <a:ext cx="1409760" cy="3873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1280" y="1854000"/>
            <a:ext cx="4712040" cy="391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halkboard"/>
              </a:rPr>
              <a:t>Lack of planning on your part does not create an emergency on mine.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Getting Started - Photos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90360" y="156168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Digital camera - good for powerpoint, slide shows, wikis, etc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mage editing tools - Pixlr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halkboard"/>
                <a:hlinkClick r:id="rId4"/>
              </a:rPr>
              <a:t>www.pixlr.co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Video camera - analog or digita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eat for action shot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quires lots of planning and edit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Wiki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360" y="698040"/>
            <a:ext cx="8178840" cy="543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lds lots of inf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ood for photos, embedded vide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an be accessed from anywhe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ikispaces - www.wikispaces.com, PBWiki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halkboard"/>
                <a:hlinkClick r:id="rId6"/>
              </a:rPr>
              <a:t>www.pbwiki.co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quipment Needed: computer, interne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Blogging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90360" y="156168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Journal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b bas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ultimed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ord Press, Blogger,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quipment needed: computer, interne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Powerpoint Presentation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90360" y="168876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op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ood for text (keep to minimum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ultimed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quipment Needed: computer, Microsoft Powerpoint or Keynote, CD burner, flash driv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Photo Slide Show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90360" y="914040"/>
            <a:ext cx="81788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653400" indent="0">
              <a:lnSpc>
                <a:spcPct val="100000"/>
              </a:lnSpc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53400" indent="-31896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Digita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059480" indent="-3193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 than Powerpoin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059480" indent="-3193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an use applications like iPhoto, Photostory , online Slidesha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059480" indent="-3193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an add music and tex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360" y="-17820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Video Presentation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91880" y="1079280"/>
            <a:ext cx="8178840" cy="6311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eds extensive plann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Keep it shor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diting takes a lot of tim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vailability of equipmen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an add music, still photos, special effects for interes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quipment needed: analog or digital video camera, blank tapes, computer for editing, editing software (iMovie, Final Cut Pro, Movie Maker), DVD to burn project 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Podcas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8178840" cy="505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681120" indent="-3326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udio with pictur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81120" indent="-3326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Vide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81120" indent="-3326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an be embedded on Wiki/Blo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81120" indent="-3326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Pod - iTalk recorder, iPhone, Apple Touc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81120" indent="-3326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icrophone, computer, software (Garageband, Audacity - free online audio mixing tool, Podomatic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halkboard"/>
                <a:hlinkClick r:id="rId7"/>
              </a:rPr>
              <a:t>www.podomatic.com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), Podcast hosts - Podbean, Libsy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